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9F3A6-1E7E-4045-814F-71C2D435B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AF1A8-7EB3-4AD7-9E7B-9197ADF36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9B7BD-F543-46DD-BE11-DAF6A27E8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DD8AE-ADCD-4799-B8C0-B375390FD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D399E-8A1C-472A-8513-D002CDC3C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C7318-049F-4B3D-BD8E-5EA576E46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EDE47-561C-41BF-8E6A-0326E8B35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838E1-949D-4EF4-82EA-E7B374549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BFF38-87D8-4F4B-95B1-E00EDFE9F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52795-6018-43AB-92E8-2DFBE3241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F4F57-6A57-4588-89C5-F701B7DD5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16CC1-09FF-41A2-8DB2-D4622F1CB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6448-8669-4AFA-9722-A0DDF430F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5"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discrete" valueType="clr">
                                      <p:cBhvr additive="repl">
                                        <p:cTn id="90"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55">
                                            <p:txEl>
                                              <p:pRg st="3" end="3"/>
                                            </p:txEl>
                                          </p:spTgt>
                                        </p:tgtEl>
                                        <p:attrNameLst>
                                          <p:attrName>fillcolor</p:attrName>
                                        </p:attrNameLst>
                                      </p:cBhvr>
                                      <p:tavLst>
                                        <p:tav tm="0">
                                          <p:val>
                                            <p:strVal val="rgb(-103,51,51)"/>
                                          </p:val>
                                        </p:tav>
                                        <p:tav tm="50000">
                                          <p:val>
                                            <p:strVal val="rgb(-103,-103,0)"/>
                                          </p:val>
                                        </p:tav>
                                      </p:tavLst>
                                    </p:anim>
                                    <p:set>
                                      <p:cBhvr>
                                        <p:cTn id="92" dur="80"/>
                                        <p:tgtEl>
                                          <p:spTgt spid="55">
                                            <p:txEl>
                                              <p:pRg st="3" end="3"/>
                                            </p:txEl>
                                          </p:spTgt>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