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0D0FC-54B8-4ECF-A140-04C4505A2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0D715-6578-4459-8DF3-388D22F99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0C6D1-FD22-4C98-8DCE-1A7C9169B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31861-E1A7-48DD-91F7-959E8904C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93309-6849-45F9-8A2E-12790CFE2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00AD0-04F0-46BC-A29D-84BC6B0BE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B365B-FA0A-4290-B7DB-BF270ACCF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20CBB-8315-4803-8D46-038DA1EA5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B397C-BC6E-492A-958E-7E153932F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D5CB5-3834-48AE-A932-E1CE53CEC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FD7F3-3BAB-410E-BD8A-D08B17326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DFC08-343C-4BC9-8018-B72F464FA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AABB-1F3A-4A33-9EF4-2566420012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ppt_y"/>
                                          </p:val>
                                        </p:tav>
                                        <p:tav tm="100000">
                                          <p:val>
                                            <p:strVal val="#ppt_y"/>
                                          </p:val>
                                        </p:tav>
                                      </p:tavLst>
                                    </p:anim>
                                    <p:anim calcmode="lin" valueType="num">
                                      <p:cBhvr additive="repl">
                                        <p:cTn id="87" dur="500" fill="hold"/>
                                        <p:tgtEl>
                                          <p:spTgt spid="5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 dur="500" fill="hold"/>
                                        <p:tgtEl>
                                          <p:spTgt spid="5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9" dur="5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5"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6"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7" dur="10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