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7BD6B-5D4C-4E6A-99D6-7DF41C19D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50FA1-065D-4205-82D4-A5D2E96D2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2FBEA-6672-4E94-9AAC-EDBD6D063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66FB5-DCF1-41F5-A6D5-BCC460C05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1BDD6-5E87-40BF-8803-201CF2BA0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B9594-8337-4905-95AD-94BC69A49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A4C86-1300-4F7E-8030-4C41E141A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35F6B-D57A-4973-882E-1665BAC6D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07557-5884-4C0B-AB7D-8DAD9963C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9ACA5-209B-4597-A8CA-69FA733E6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B78F1-7FC9-4F84-A9A7-F81735B3F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FA912-7344-4379-AB25-7894384A6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37B2-FCF9-44AF-A00B-ECD9AE9C47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000">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Effect filter="wipe(down)" transition="in">
                                      <p:cBhvr additive="repl">
                                        <p:cTn id="82" dur="500"/>
                                        <p:tgtEl>
                                          <p:spTgt spid="55">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3" end="3"/>
                                            </p:txEl>
                                          </p:spTgt>
                                        </p:tgtEl>
                                        <p:attrNameLst>
                                          <p:attrName>style.visibility</p:attrName>
                                        </p:attrNameLst>
                                      </p:cBhvr>
                                      <p:to>
                                        <p:strVal val="visible"/>
                                      </p:to>
                                    </p:set>
                                    <p:anim calcmode="lin" valueType="num">
                                      <p:cBhvr additive="repl">
                                        <p:cTn id="87"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88"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89" dur="1000" fill="hold"/>
                                        <p:tgtEl>
                                          <p:spTgt spid="5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0" dur="1000" fill="hold"/>
                                        <p:tgtEl>
                                          <p:spTgt spid="5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