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EDE9C-D700-47EB-B332-977996EAB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5B42D-0BE8-48E9-93FD-B2BAC1145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C52DE-37EF-426F-9BA5-E718C36B9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01BBF-65D5-470B-96E8-0BD601E61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6CD9E-7B95-43FE-8865-5BD81A807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9FE69-F219-4E67-955C-7D59E5C7B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2AFD4-0026-40BA-9B88-280745095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FAAAC-7B89-4319-BF3B-1207821CF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B7C9D-558A-45A7-A455-1E3CDF387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DC879-EEDA-481D-8E4E-8E8E6BFEB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7F5EF-B13D-4F42-A4C1-B1CC15CDA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01723-E471-4A23-A536-746F247C7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ED88-81EB-48C8-B0F1-30AB1F79BB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2/3*#ppt_w"/>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fade" transition="in">
                                      <p:cBhvr additive="repl">
                                        <p:cTn id="84" dur="20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500" fill="hold"/>
                                        <p:tgtEl>
                                          <p:spTgt spid="55">
                                            <p:txEl>
                                              <p:pRg st="3" end="3"/>
                                            </p:txEl>
                                          </p:spTgt>
                                        </p:tgtEl>
                                        <p:attrNameLst>
                                          <p:attrName>ppt_w</p:attrName>
                                        </p:attrNameLst>
                                      </p:cBhvr>
                                      <p:tavLst>
                                        <p:tav tm="0">
                                          <p:val>
                                            <p:strVal val="4*#ppt_w"/>
                                          </p:val>
                                        </p:tav>
                                        <p:tav tm="100000">
                                          <p:val>
                                            <p:strVal val="#ppt_w"/>
                                          </p:val>
                                        </p:tav>
                                      </p:tavLst>
                                    </p:anim>
                                    <p:anim calcmode="lin" valueType="num">
                                      <p:cBhvr additive="repl">
                                        <p:cTn id="90" dur="500" fill="hold"/>
                                        <p:tgtEl>
                                          <p:spTgt spid="55">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