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4A6D2-01FF-407E-94C6-0AAF9C402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7D09D-FDF0-46BA-A23B-7C9C5E064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AB7CC-DBBF-4159-9B15-1DBE9FEE2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96D53-6AAC-4290-910E-3933B91FC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C43AC-A761-4AB2-AC4F-850E4FF4E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F3264-BEAC-4937-A395-94E095044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715CB-9EDA-40BA-8657-00C72930B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B090F-0163-4A0B-9A78-6C26AC254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45F00-B1DB-49E1-BB43-0AD1DFA58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62099-C1CE-476E-A53A-33A1D840F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B1385-BF0B-41A2-A35F-E3122887C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78E80-13E5-41AD-8C95-84DE9503D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A1D9-5979-44C4-8BBF-627465252E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000">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 calcmode="lin" valueType="num">
                                      <p:cBhvr additive="repl">
                                        <p:cTn id="82" dur="500" fill="hold"/>
                                        <p:tgtEl>
                                          <p:spTgt spid="55">
                                            <p:txEl>
                                              <p:pRg st="2" end="2"/>
                                            </p:txEl>
                                          </p:spTgt>
                                        </p:tgtEl>
                                        <p:attrNameLst>
                                          <p:attrName>ppt_w</p:attrName>
                                        </p:attrNameLst>
                                      </p:cBhvr>
                                      <p:tavLst>
                                        <p:tav tm="0">
                                          <p:val>
                                            <p:strVal val="#ppt_w*0.05"/>
                                          </p:val>
                                        </p:tav>
                                        <p:tav tm="100000">
                                          <p:val>
                                            <p:strVal val="#ppt_w"/>
                                          </p:val>
                                        </p:tav>
                                      </p:tavLst>
                                    </p:anim>
                                    <p:anim calcmode="lin" valueType="num">
                                      <p:cBhvr additive="repl">
                                        <p:cTn id="83" dur="5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4" dur="5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5" dur="5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000" fill="hold"/>
                                        <p:tgtEl>
                                          <p:spTgt spid="5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 dur="1000" fill="hold"/>
                                        <p:tgtEl>
                                          <p:spTgt spid="55">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3" dur="10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