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8C1E9-266D-465E-B9CE-DE6C92C8E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3887B-7BC8-4103-8D47-5752A5D94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66189-B60F-434D-9498-A003DDC6E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E4D94-CFEE-44AB-8B30-3CE930C76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6F2E0-270A-4A9B-BB47-701B0F27C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99BCF-D767-4E33-A81B-BBDC1A4DD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ECB7E-BDE1-4ADD-811F-444E785C7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B633B-F023-4592-ADA3-671745807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3A8D8-3E13-45E4-B9B2-F9B11B741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7EE00-450A-4D33-B11A-F93E2AD4D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1A7EA-1963-489D-87AB-E891B88B7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43E59-F4CE-4DCE-A0D5-D0D201405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229B-501E-4B65-8DA2-9CA91EE5CA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80" dur="2000" fill="hold"/>
                                        <p:tgtEl>
                                          <p:spTgt spid="5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4/3*#ppt_w"/>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4/3*#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1000"/>
                                        <p:tgtEl>
                                          <p:spTgt spid="55">
                                            <p:txEl>
                                              <p:pRg st="3" end="3"/>
                                            </p:txEl>
                                          </p:spTgt>
                                        </p:tgtEl>
                                      </p:cBhvr>
                                    </p:animEffect>
                                    <p:anim calcmode="lin" valueType="num">
                                      <p:cBhvr additive="repl">
                                        <p:cTn id="92" dur="10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3" dur="900" fill="hold"/>
                                        <p:tgtEl>
                                          <p:spTgt spid="55">
                                            <p:txEl>
                                              <p:pRg st="3" end="3"/>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900"/>
                                          </p:stCondLst>
                                        </p:cTn>
                                        <p:tgtEl>
                                          <p:spTgt spid="5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