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26A29-F19D-4535-90EF-F512DA43B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2172C-11E9-4D82-8991-B5A6113CA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14BF1-E1EF-4705-B36D-AAE01B14D6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B86FB3-092B-45C4-9DBF-D52941B5A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3F903-3FB4-49E5-957A-A408A07B3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3F238-8BA1-48E9-B919-DFD8F0B7F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7E8CB-21FC-4BAA-9BE7-D75B614D2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3BEFC-ED7F-4F0C-B2DF-5B1A3684A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86324-0BDA-4DDD-A83C-9E24F53B1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92495-8042-4667-9DF4-B570A1D11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0B8E6-FE13-4DB9-B01B-F9E759663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6B496-7F7A-4144-9562-1B7C63D2BC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389E2-5C68-45D2-94CA-BACF760B23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000">
                                          <p:stCondLst>
                                            <p:cond delay="0"/>
                                          </p:stCondLst>
                                        </p:cTn>
                                        <p:tgtEl>
                                          <p:spTgt spid="55">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 calcmode="lin" valueType="num">
                                      <p:cBhvr additive="repl">
                                        <p:cTn id="89" dur="500" fill="hold"/>
                                        <p:tgtEl>
                                          <p:spTgt spid="55">
                                            <p:txEl>
                                              <p:pRg st="3" end="3"/>
                                            </p:txEl>
                                          </p:spTgt>
                                        </p:tgtEl>
                                        <p:attrNameLst>
                                          <p:attrName>ppt_x</p:attrName>
                                        </p:attrNameLst>
                                      </p:cBhvr>
                                      <p:tavLst>
                                        <p:tav tm="0">
                                          <p:val>
                                            <p:strVal val="1+#ppt_w/2"/>
                                          </p:val>
                                        </p:tav>
                                        <p:tav tm="100000">
                                          <p:val>
                                            <p:strVal val="#ppt_x"/>
                                          </p:val>
                                        </p:tav>
                                      </p:tavLst>
                                    </p:anim>
                                    <p:anim calcmode="lin" valueType="num">
                                      <p:cBhvr additive="repl">
                                        <p:cTn id="90" dur="500" fill="hold"/>
                                        <p:tgtEl>
                                          <p:spTgt spid="5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