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5B37A-0E95-4832-8CA4-01907847D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8DAE0-8A12-497B-8CD8-091A1E042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35E80-54A6-41C9-B212-B8227F417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38CEB-146D-4B04-B5A0-F66EF9B73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C029B-57A4-45CD-B435-5D834C0C3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A4AFA-7DF9-48AD-8C73-2C46F287C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3A7AF-49D9-40EF-AB95-C321B9A6E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512EA-C81A-47FE-9480-CE3AAF8F4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63442-3E3F-4692-B555-7FF67E266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F3861-BBAE-4620-AA37-400AB75F0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C8B2B-6BA5-405D-A363-09C447EB6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C592C-2714-4101-A401-B09011987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74EE-19FF-4A7D-A287-BDCB8F846E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repl">
                                        <p:cTn id="79" dur="50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85"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86"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8"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89"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90"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91" dur="1000">
                                          <p:stCondLst>
                                            <p:cond delay="0"/>
                                          </p:stCondLst>
                                        </p:cTn>
                                        <p:tgtEl>
                                          <p:spTgt spid="55">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3" end="3"/>
                                            </p:txEl>
                                          </p:spTgt>
                                        </p:tgtEl>
                                        <p:attrNameLst>
                                          <p:attrName>style.visibility</p:attrName>
                                        </p:attrNameLst>
                                      </p:cBhvr>
                                      <p:to>
                                        <p:strVal val="visible"/>
                                      </p:to>
                                    </p:set>
                                    <p:anim calcmode="lin" valueType="num">
                                      <p:cBhvr additive="repl">
                                        <p:cTn id="96"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7"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