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773DE-B4D3-4DC5-A575-E051E370A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405C3-53AC-41A0-9B29-825D0D844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12B81-741B-40F7-922F-4E40C0202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9E200-95BB-483D-8EDA-80C3DC374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A214C-9C60-4D51-A18F-A33F2D3E5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A2A10-0567-4225-B336-3DF7FBB0F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E557B-5DAF-484C-B649-C9B9A3D0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63D09-D93B-4701-B1B7-D56B3AB12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54215-DF9A-45FB-A2BB-2F3F688A3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8241-ECB6-49AC-B63E-AC8686BD0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50C38-34B1-47B4-96D9-EF9FC0A3C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39F23-02FF-4D1B-A1C7-38BE6CC9A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275D-149B-407A-ABA8-D738A45E1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6" dur="15000" fill="hold"/>
                                        <p:tgtEl>
                                          <p:spTgt spid="5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