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7199D-4059-432D-A362-190D5D9F1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B7FAC-D32C-4290-B0A5-6FA676C0F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10609-565C-429E-AAD3-5B203D592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FBDFB-A03A-4C82-B9D3-3E6CB9EE8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5D30-7C9D-444A-B3B5-DF833F33B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0C8AA-8A74-4302-8F14-84810E9E2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5AE5D-D5AE-4C5F-8031-24F8890D1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04255-9004-48F6-80E4-056D977A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3402-28DE-4B3D-9126-3E13E4870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C8D32-B2EC-4A64-8905-C955C74FF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F9441-5227-45EB-B0FB-B90DE95DA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E896-5279-4E61-BECC-1621B13A5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4D46-89B1-4B08-9B60-CA6B1EECB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Scale>
                                      <p:cBhvr>
                                        <p:cTn id="85"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55">
                                            <p:txEl>
                                              <p:pRg st="2" end="2"/>
                                            </p:txEl>
                                          </p:spTgt>
                                        </p:tgtEl>
                                      </p:cBhvr>
                                    </p:animMotion>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set>
                                      <p:cBhvr>
                                        <p:cTn id="92" dur="455" fill="hold">
                                          <p:stCondLst>
                                            <p:cond delay="0"/>
                                          </p:stCondLst>
                                        </p:cTn>
                                        <p:tgtEl>
                                          <p:spTgt spid="55">
                                            <p:txEl>
                                              <p:pRg st="3" end="3"/>
                                            </p:txEl>
                                          </p:spTgt>
                                        </p:tgtEl>
                                        <p:attrNameLst>
                                          <p:attrName>r</p:attrName>
                                        </p:attrNameLst>
                                      </p:cBhvr>
                                      <p:to>
                                        <p:strVal val="-45"/>
                                      </p:to>
                                    </p:set>
                                    <p:anim calcmode="lin" valueType="num">
                                      <p:cBhvr additive="repl">
                                        <p:cTn id="93"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4"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5"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6"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