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20EB6-08FB-43A7-B9A9-AFF2E8E66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F4F53-CA3E-4231-AF60-F5BFA21AE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8C161-A6B7-4D05-8BE0-039DD33DB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7028A-EB1F-4534-AC28-00DCE7FE9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B7D42-73BB-4890-B766-42E6CDD68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0D4F5-8BCE-4EA4-B5C8-67283564B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8FD18-0361-4712-91CD-C22F2265F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B1415-E437-4A87-A0BB-9EA02A37D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4BDCE-466B-429E-A702-A8F9233A6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D5016-7312-4685-9219-90ECFC19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8A63-BF05-4C92-A3E0-05F9987FF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65400-CE41-4417-974E-7994BBC8D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E67A-D7EE-4626-B316-96DD1743C0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7"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w</p:attrName>
                                        </p:attrNameLst>
                                      </p:cBhvr>
                                      <p:tavLst>
                                        <p:tav tm="0">
                                          <p:val>
                                            <p:strVal val="#ppt_w*0.05"/>
                                          </p:val>
                                        </p:tav>
                                        <p:tav tm="100000">
                                          <p:val>
                                            <p:strVal val="#ppt_w"/>
                                          </p:val>
                                        </p:tav>
                                      </p:tavLst>
                                    </p:anim>
                                    <p:anim calcmode="lin" valueType="num">
                                      <p:cBhvr additive="repl">
                                        <p:cTn id="95" dur="5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6" dur="5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7" dur="5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8" dur="500"/>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