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B6182-6853-48A0-BF17-F5DC51B87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44646-4AF1-45A8-8473-EBB9EF7C8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5732C-6010-4B90-BF23-4A4EC790B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89FAE-D410-43D9-AB51-91957FF57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637EF-0AD6-45F4-B06B-766DBB950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294CE-59EB-4EA1-9172-8F5FD122A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7F52B-9B7F-49A2-8812-138359C58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01D86-B687-4993-AC10-724FA754E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24FDC-C576-49AC-AEBE-50097D25C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EED58-4A39-4D19-89EA-ED6838DC5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B347D-3365-4A45-AC86-D14C06A7B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178F3-A83A-4B1D-A514-444823F76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FDF03-6251-4124-A23E-EAA26FF8C8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2" dur="1000" fill="hold"/>
                                        <p:tgtEl>
                                          <p:spTgt spid="5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3" dur="1000" fill="hold"/>
                                        <p:tgtEl>
                                          <p:spTgt spid="5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