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5B736-FBD9-4DA4-A9E8-55EE34F01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47E20-A63B-4FB9-8449-32E4FEF48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CBCFE-2EE5-49DA-AB52-8C1B3178F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042BF-8E90-4C99-A509-E7B379C55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F0B5F-84C0-4E83-8A3D-8A501F0B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3E16E-56C3-4478-9267-221B4136D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EE3AE-277F-45FD-8825-0D8C874C3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255B2-ADD0-43AB-B6D4-6835B1C2F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7DB04-B68B-427F-ADE4-1405B0FB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724E-588F-45FA-B013-7506E34D3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1320-C253-42A3-BFE4-110D6DAD3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B6818-B799-4C6E-8D44-F8FFDB269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60A9-21B2-4FC7-A6AD-C56FF906A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diamond(out)" transition="in">
                                      <p:cBhvr additive="repl">
                                        <p:cTn id="92" dur="2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