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87A6F-52DB-471A-A648-927E52D2E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F178-8C58-4058-8EB9-2E8D494C6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80535-E764-45F4-9C06-167F9AF82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07475-1526-4382-8BF0-E78469F72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EFCE-0ACD-4C9E-B36C-919635BD4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D4941-8CA9-44EB-972F-37EDBF3A1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DBD67-C8C5-4774-9625-405B12B53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5967A-0446-420E-9BFD-125F0D6C5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DA112-E516-4057-9869-415E58E2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42205-FB69-4702-AE55-B089DE062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A18DF-0D70-4C62-8D05-E28D7D72C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FA55D-1E6B-4AB4-87B9-A0A9EF915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EEFF-CF80-4289-B9BB-D08A8D3C8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3" end="3"/>
                                            </p:txEl>
                                          </p:spTgt>
                                        </p:tgtEl>
                                        <p:attrNameLst>
                                          <p:attrName>style.visibility</p:attrName>
                                        </p:attrNameLst>
                                      </p:cBhvr>
                                      <p:to>
                                        <p:strVal val="visible"/>
                                      </p:to>
                                    </p:set>
                                    <p:animEffect filter="fade" transition="in">
                                      <p:cBhvr additive="repl">
                                        <p:cTn id="86" dur="2000"/>
                                        <p:tgtEl>
                                          <p:spTgt spid="55">
                                            <p:txEl>
                                              <p:pRg st="3" end="3"/>
                                            </p:txEl>
                                          </p:spTgt>
                                        </p:tgtEl>
                                      </p:cBhvr>
                                    </p:animEffect>
                                    <p:anim calcmode="lin" valueType="num">
                                      <p:cBhvr additive="repl">
                                        <p:cTn id="87"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