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63265-C975-4DD3-9687-359DA56AD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D866E-D459-499E-8F94-7A30DFE6F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6D063-C0EB-4A36-B45F-B98BBD8D4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B1838-8762-437A-8A38-EB7DB90AD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EE3A-4C1C-4ED9-855A-ACCB75D10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5E1FE-89C8-432C-96B7-7D67179DE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FC3B6-8FE8-481C-B34D-4F611463F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F9203-F5CA-486B-B94A-C354C02D4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0FD9A-2044-4695-8765-333F6C03C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0A4D1-1135-4613-A8C9-6532E269C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8F4C-9A4C-4A38-8309-B2CFFACCA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CDB4-4DA0-4C64-9268-76937D954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3B23-1220-404B-A66F-38DB5AB66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anim calcmode="lin" valueType="num">
                                      <p:cBhvr additive="repl">
                                        <p:cTn id="92"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