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607F2-2875-4B67-A0B8-C435FDEC5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E4C15-F928-4AAB-A43D-7983D1C88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23CC28-81D2-49A0-8F4F-B3E1F6AD7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313C7-4327-4394-9C4F-EFD915F78D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5D43D-D8D4-47B0-91C7-3D7A66E99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C3EB2-1A2D-433D-B931-F8A6E1AF4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D310A-C76A-4DB4-ACB8-345494C48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0AEE4-0A1D-4177-85D5-E8C463F34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3D673-10FC-42A3-93E2-11E6A82F6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AE894-8666-4EE8-88DB-533878E6C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E7177-878D-43DF-B2C7-C4877FDCB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4A8F5-26BA-4C7F-8C37-607E21591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0F40-E6A3-403D-AFFF-A9E3A84D64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55">
                                            <p:txEl>
                                              <p:pRg st="1" end="1"/>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fade" transition="in">
                                      <p:cBhvr additive="repl">
                                        <p:cTn id="85" dur="1000"/>
                                        <p:tgtEl>
                                          <p:spTgt spid="55">
                                            <p:txEl>
                                              <p:pRg st="2" end="2"/>
                                            </p:txEl>
                                          </p:spTgt>
                                        </p:tgtEl>
                                      </p:cBhvr>
                                    </p:animEffect>
                                    <p:anim calcmode="lin" valueType="num">
                                      <p:cBhvr additive="repl">
                                        <p:cTn id="86"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3" dur="1000" fill="hold"/>
                                        <p:tgtEl>
                                          <p:spTgt spid="55">
                                            <p:txEl>
                                              <p:pRg st="3" end="3"/>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94" dur="1000" fill="hold"/>
                                        <p:tgtEl>
                                          <p:spTgt spid="55">
                                            <p:txEl>
                                              <p:pRg st="3" end="3"/>
                                            </p:txEl>
                                          </p:spTgt>
                                        </p:tgtEl>
                                        <p:attrNameLst>
                                          <p:attrName>ppt_y</p:attrName>
                                        </p:attrNameLst>
                                      </p:cBhvr>
                                      <p:tavLst>
                                        <p:tav tm="0">
                                          <p:val>
                                            <p:strVal val="#ppt_y"/>
                                          </p:val>
                                        </p:tav>
                                        <p:tav tm="100000">
                                          <p:val>
                                            <p:strVal val="#ppt_y"/>
                                          </p:val>
                                        </p:tav>
                                      </p:tavLst>
                                    </p:anim>
                                    <p:animEffect filter="fade" transition="in">
                                      <p:cBhvr additive="repl">
                                        <p:cTn id="95" dur="10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