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EC8C4-2D98-493A-BBFB-7D58B3030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6C703-0B8F-4C4A-A2D4-F1B62E18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3ACE2-FC14-49CA-92B4-E3143F875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D3145-2860-4CD8-BEF5-16381F57E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B0E65-D723-4B56-BE66-A3C83AC4F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94DF2-51F6-4DB1-A2A5-423181488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223A5-2067-4293-A026-72294C3A6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4EA79-8BC3-4073-82D9-4955003E4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B2ECF-99C2-497C-8E2B-C94214FE6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6DEC-E9EF-4027-A989-8F761BC61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B3FD-C094-41BA-A11F-970DFB4F1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F7F3-8DB2-4732-9BED-A8330B9F2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EAB0-B2B5-4E05-AEA5-D44ADC61EC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ou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2000"/>
                                        <p:tgtEl>
                                          <p:spTgt spid="55">
                                            <p:txEl>
                                              <p:pRg st="2" end="2"/>
                                            </p:txEl>
                                          </p:spTgt>
                                        </p:tgtEl>
                                      </p:cBhvr>
                                    </p:animEffect>
                                    <p:anim calcmode="lin" valueType="num">
                                      <p:cBhvr additive="repl">
                                        <p:cTn id="84" dur="2000" fill="hold"/>
                                        <p:tgtEl>
                                          <p:spTgt spid="5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85" dur="2000" fill="hold"/>
                                        <p:tgtEl>
                                          <p:spTgt spid="5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2"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