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11BA0-C7E7-4E96-BE03-55E4516DD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A93EB-85CB-4A3F-BC8E-F26E44C9A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C24E8-04BA-4B76-85DB-4B17CC7F3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A2B2E-249A-4453-B2B9-D69EF66CE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7A349-D7B1-4495-AA4C-9D214550D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F6516-FE88-4B88-A6DE-5B6DBACF0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6255E-5AE4-4FA6-8F60-F2942AD26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CF6A3-99D1-4AE5-977D-8965272CA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C5AAF-94A0-4A20-AE81-897ECE3C6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00E0E-04D2-4BDA-B039-DCC1D9553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2DD1D-DF92-4BB0-AA7A-D30B0185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BFD8F-AA86-4FE5-908B-4AED9D364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86C7-CD7A-4A37-9155-391D9C4D73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15000" fill="hold"/>
                                        <p:tgtEl>
                                          <p:spTgt spid="55">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