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3638B-6319-4154-A9EE-B82F21316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536AC-5174-4AA9-9EA9-03A70AAEE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22CAF-42C8-423B-A00A-DB3CCAC5C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08B5B-BAB2-4997-8EE1-774484555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C1DC0-4066-4493-BF29-6EC1CFE3D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C3849-2AE0-4ADF-A904-924014A2A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C3962-82BA-4D54-853E-6FBFBFFEA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5167A-2009-4870-B2B2-F13B1606A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A9090-0789-4A88-B27C-C8528219A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3B183-693E-4FAA-B8F4-E994CC4CA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E999D-DA85-4137-82CB-E87A675DA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2A5E2-F73C-4FE8-994A-409F604A7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D85A-70E4-46C4-BDFE-3859C1DA01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15000" fill="hold"/>
                                        <p:tgtEl>
                                          <p:spTgt spid="55">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5"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6"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