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77EEB-A98C-49BE-BA70-15FECC5ED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95372-2218-491F-B514-2A0B91AD3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1AB55-5843-4038-B04B-45768FFE0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D2073-9D33-4A4C-A0DB-2CF650F44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B972E-21FE-4306-AE41-2EC69A18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2419B-5632-441F-8300-120671DA7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A6485-25EA-468C-9A17-9459AC9CB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909EC-9470-487D-ACFB-4930884BD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6F7A3-EA2B-418B-AA82-FF587F57A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2D1B1-A96E-4978-A566-30CFC2CB6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61752-CF90-4D9F-8443-630DADBF4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E0C90-A4A2-4011-AC3C-38FA41018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6399-DE40-4B6B-9C07-6D7867E5D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wipe(left)"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anim calcmode="lin" valueType="num">
                                      <p:cBhvr additive="repl">
                                        <p:cTn id="93" dur="2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94" dur="2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5" dur="2000" fill="hold"/>
                                        <p:tgtEl>
                                          <p:spTgt spid="55">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