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A6D43-9E0D-498B-95AF-2C907648C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20DD7-252A-49BE-AEEC-DCB5365E8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B7EF9-21E3-4488-A5FB-49285F863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006CF-31C7-41A6-BF71-CC9E96ECB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51A36-42E9-4014-B7D4-0AE49CC12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EEC1D-C56F-47DB-B894-9163D2157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2C09E-FEE8-401C-84B8-C876E09FD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CE0DA-CEFC-44F0-BCEB-8D45050C2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FEFEB-989A-4826-9E83-A45CE1A59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00A9-A310-4CAC-AEC7-1DDF4EA8D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07072-FC77-4830-9423-9AC6CF93A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63AFE-6841-4330-88EF-2BD72BE1F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B68A-8FE1-407C-886F-DE44B44E5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i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set>
                                      <p:cBhvr>
                                        <p:cTn id="88" dur="455" fill="hold">
                                          <p:stCondLst>
                                            <p:cond delay="0"/>
                                          </p:stCondLst>
                                        </p:cTn>
                                        <p:tgtEl>
                                          <p:spTgt spid="55">
                                            <p:txEl>
                                              <p:pRg st="3" end="3"/>
                                            </p:txEl>
                                          </p:spTgt>
                                        </p:tgtEl>
                                        <p:attrNameLst>
                                          <p:attrName>r</p:attrName>
                                        </p:attrNameLst>
                                      </p:cBhvr>
                                      <p:to>
                                        <p:strVal val="-45"/>
                                      </p:to>
                                    </p:set>
                                    <p:anim calcmode="lin" valueType="num">
                                      <p:cBhvr additive="repl">
                                        <p:cTn id="89" dur="455" fill="hold">
                                          <p:stCondLst>
                                            <p:cond delay="455"/>
                                          </p:stCondLst>
                                        </p:cTn>
                                        <p:tgtEl>
                                          <p:spTgt spid="55">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0" dur="455" fill="hold">
                                          <p:stCondLst>
                                            <p:cond delay="0"/>
                                          </p:stCondLst>
                                        </p:cTn>
                                        <p:tgtEl>
                                          <p:spTgt spid="55">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1" dur="156" autoRev="1" fill="hold">
                                          <p:stCondLst>
                                            <p:cond delay="455"/>
                                          </p:stCondLst>
                                        </p:cTn>
                                        <p:tgtEl>
                                          <p:spTgt spid="55">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2" dur="136" fill="hold">
                                          <p:stCondLst>
                                            <p:cond delay="864"/>
                                          </p:stCondLst>
                                        </p:cTn>
                                        <p:tgtEl>
                                          <p:spTgt spid="55">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