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2C22D-B0BF-4866-8021-B64807D5D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FD852-56C9-4CF7-A686-915339D05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5B5EC-AA65-4430-9DE7-71DCF6943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A93D3-727A-4D07-AD63-A014E04DA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0166A-BCA2-4A90-AD20-7F351D24A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CECD6-3297-4139-8676-5851B487B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5F5F9-6A7C-4588-AF50-950027C89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A06A2-8F98-45EA-8EA5-484FD962D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E2F3F-8791-4F4C-8F96-007FDA6E0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BD300-04EE-4D09-9E60-D52590F7A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CA344-90B6-4BB2-8EE2-F7B1E590B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53642-1FF9-4F2E-8BB7-810A7AA08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045F-1EFD-4666-9512-BA03ECA7FD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barn(outVertical)"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0"/>
                                        <p:tgtEl>
                                          <p:spTgt spid="55">
                                            <p:txEl>
                                              <p:pRg st="3" end="3"/>
                                            </p:txEl>
                                          </p:spTgt>
                                        </p:tgtEl>
                                      </p:cBhvr>
                                    </p:animEffect>
                                    <p:anim calcmode="lin" valueType="num">
                                      <p:cBhvr additive="repl">
                                        <p:cTn id="93"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900"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5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