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ADD92D-7937-4249-A05B-3344839D33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E58F7-1BE2-496D-93F5-E3BF54783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CCB137-D3AA-4B5C-A0F9-3104BCF91E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92AFAA-8359-4135-A4C9-7D0E9A5548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FE939-83EA-4FD5-83B0-0EBFBEE10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CCD01-5979-40FB-9926-6D0672BF7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4BBDD-3464-4D5C-8A04-F24BD29D4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7E5C2-836E-4685-965D-A40CCBD5B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7349A-ABAD-4EC7-864F-79FA371D1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68647-ECCB-45AF-A8FA-2AD1C841E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EEE28-845B-4331-A2C9-C3D98AB11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BF56C-F1A3-43BB-AFB6-6866FCF757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27B47-1136-4A02-9D3F-047CE87785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anim calcmode="lin" valueType="num">
                                      <p:cBhvr additive="repl">
                                        <p:cTn id="79" dur="2000" fill="hold"/>
                                        <p:tgtEl>
                                          <p:spTgt spid="5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80" dur="2000" fill="hold"/>
                                        <p:tgtEl>
                                          <p:spTgt spid="5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fade" transition="in">
                                      <p:cBhvr additive="repl">
                                        <p:cTn id="85" dur="20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Effect filter="fade" transition="in">
                                      <p:cBhvr additive="repl">
                                        <p:cTn id="90" dur="2000"/>
                                        <p:tgtEl>
                                          <p:spTgt spid="55">
                                            <p:txEl>
                                              <p:pRg st="3" end="3"/>
                                            </p:txEl>
                                          </p:spTgt>
                                        </p:tgtEl>
                                      </p:cBhvr>
                                    </p:animEffect>
                                    <p:anim calcmode="lin" valueType="num">
                                      <p:cBhvr additive="repl">
                                        <p:cTn id="91" dur="2000" fill="hold"/>
                                        <p:tgtEl>
                                          <p:spTgt spid="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2" dur="2000" fill="hold"/>
                                        <p:tgtEl>
                                          <p:spTgt spid="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