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33719-A662-44C8-AD13-245A8C8DC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036E7-5B9A-4C3F-BC4C-AEAC06002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D31C4-B524-41BB-A969-31C30C386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90962-4D1D-4BCC-8AFD-7B5C34AE0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1BD26-3B7F-4ADF-B525-AEC9C6F2A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52EB4-7D63-4A82-A90C-3AF0933ED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69E3B-5D7D-49DF-8E78-013C7A296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44B56-B00D-49CB-A681-997D311D8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E9B7D-4E17-4188-A122-E016E0485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81CA9-4964-4A8E-A1AF-AFEDEE1BF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08BC8-A403-4B20-8ABB-9049463E5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8ADD8-489A-4D33-8F99-7A932BC66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3DCA4-866C-4C1E-B9B1-14E893222C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randombar(horizont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anim calcmode="lin" valueType="num">
                                      <p:cBhvr additive="repl">
                                        <p:cTn id="84"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2" dur="1000" fill="hold"/>
                                        <p:tgtEl>
                                          <p:spTgt spid="55">
                                            <p:txEl>
                                              <p:pRg st="3" end="3"/>
                                            </p:txEl>
                                          </p:spTgt>
                                        </p:tgtEl>
                                        <p:attrNameLst>
                                          <p:attrName>r</p:attrName>
                                        </p:attrNameLst>
                                      </p:cBhvr>
                                      <p:tavLst>
                                        <p:tav tm="0">
                                          <p:val>
                                            <p:strVal val="90"/>
                                          </p:val>
                                        </p:tav>
                                        <p:tav tm="100000">
                                          <p:val>
                                            <p:strVal val="0"/>
                                          </p:val>
                                        </p:tav>
                                      </p:tavLst>
                                    </p:anim>
                                    <p:animEffect filter="fade" transition="in">
                                      <p:cBhvr additive="repl">
                                        <p:cTn id="93" dur="1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