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66BC1-728D-4C51-8419-DC2D77D37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03FFF-CBEB-440E-92DE-41F4D3A8B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04C15-B6E5-40C0-B571-C252661C0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D8F72-1651-41A2-AFC4-70C19AF4F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3F2CD-D5BE-43C7-9F47-391C9D7B3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311BC-4EEA-4751-9C5F-4AF6569E5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426EC-F55D-48EC-A957-C7CD7F964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EEC58-F534-45C5-8595-7E76F4EA6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08D3B-10F5-40B8-96BF-52FF8A61E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26C5F-6D63-45D3-B5F8-CD4E74C7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7F5E-2733-4286-9F66-03334BD0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00E62-24D3-40C4-8C26-6E06C23D6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F542-E9C0-4D67-BA2E-9289152F1A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15000" fill="hold"/>
                                        <p:tgtEl>
                                          <p:spTgt spid="55">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slide(fromBottom)"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