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ECECF-79B8-4567-91D3-CAF6FC026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29DBA-E889-4640-A5C6-113132507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BB62D-2EAA-4EB5-B263-29EF3AF1A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50B31-5105-428D-88F9-856EC9CB2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F68BC-AA79-4DC8-AFB4-1B1D69783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65316-D494-4B59-9B38-B632C4080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95110-3785-4655-8A8D-986F702B3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ECAF3-B802-4D20-8495-B48543D38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B8DCE-5915-4708-A607-710DAA21B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79DEB-095F-46B3-B040-BD077A8AB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D404A-18F1-4F2E-BEF2-B95807527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42C4B-E478-439D-AC5B-C163257BC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965D-960A-4ABF-BFC2-2C5821C61F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5000" fill="hold"/>
                                        <p:tgtEl>
                                          <p:spTgt spid="5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wheel(2)" transition="in">
                                      <p:cBhvr additive="repl">
                                        <p:cTn id="84" dur="20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fade" transition="in">
                                      <p:cBhvr additive="repl">
                                        <p:cTn id="89" dur="100"/>
                                        <p:tgtEl>
                                          <p:spTgt spid="55">
                                            <p:txEl>
                                              <p:pRg st="3" end="3"/>
                                            </p:txEl>
                                          </p:spTgt>
                                        </p:tgtEl>
                                      </p:cBhvr>
                                    </p:animEffect>
                                    <p:anim calcmode="lin" valueType="num">
                                      <p:cBhvr additive="repl">
                                        <p:cTn id="90" dur="4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1" dur="400" fill="hold"/>
                                        <p:tgtEl>
                                          <p:spTgt spid="55">
                                            <p:txEl>
                                              <p:pRg st="3" end="3"/>
                                            </p:txEl>
                                          </p:spTgt>
                                        </p:tgtEl>
                                        <p:attrNameLst>
                                          <p:attrName>ppt_y</p:attrName>
                                        </p:attrNameLst>
                                      </p:cBhvr>
                                      <p:tavLst>
                                        <p:tav tm="0">
                                          <p:val>
                                            <p:strVal val="#ppt_y+0.31"/>
                                          </p:val>
                                        </p:tav>
                                        <p:tav tm="100000">
                                          <p:val>
                                            <p:strVal val="#ppt_y+0.31"/>
                                          </p:val>
                                        </p:tav>
                                      </p:tavLst>
                                    </p:anim>
                                    <p:anim calcmode="lin" valueType="num">
                                      <p:cBhvr additive="repl">
                                        <p:cTn id="92" dur="600" fill="hold">
                                          <p:stCondLst>
                                            <p:cond delay="400"/>
                                          </p:stCondLst>
                                        </p:cTn>
                                        <p:tgtEl>
                                          <p:spTgt spid="5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3" dur="600" fill="hold">
                                          <p:stCondLst>
                                            <p:cond delay="400"/>
                                          </p:stCondLst>
                                        </p:cTn>
                                        <p:tgtEl>
                                          <p:spTgt spid="5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