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418E4-81A7-41BD-96AE-CA9DFA284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557E-D1DF-43CF-8D2F-228452911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339F4-A375-482E-8194-43659BF29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BAAA9-3D66-4AE3-B0D0-2FC41FD68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31946-E405-4791-B804-29668CFC3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B001-22E1-47A9-B580-A60EAD68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4050C-2DAD-4B40-8779-0324F889D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8279B-41C6-41D4-AD4C-751B34C56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D8A82-4F7F-4C58-8749-21D2DE82F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0A9D-690E-4864-8352-86A848394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6EC1-AEAA-4373-9BD2-90FFE0132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3AE0C-2973-4B48-8BE2-1A2D14276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B3DD-045C-40A0-B00D-A4A5306181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arn(out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1000"/>
                                        <p:tgtEl>
                                          <p:spTgt spid="55">
                                            <p:txEl>
                                              <p:pRg st="3" end="3"/>
                                            </p:txEl>
                                          </p:spTgt>
                                        </p:tgtEl>
                                      </p:cBhvr>
                                    </p:animEffect>
                                    <p:anim calcmode="lin" valueType="num">
                                      <p:cBhvr additive="repl">
                                        <p:cTn id="89"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