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F1E4D-F57C-4DD3-AFFB-98E49DE51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6796D-1430-4786-BF2D-0AE288437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2A833-6FBC-4323-8A4B-10A7C2DAD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2F2C0-858C-4757-8B60-D470E080C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0B427-7F67-42E1-979E-D979E469B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4CAC1-98CE-4329-B9C3-6465EA5EE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76953-6680-4EA5-826F-DA6168A86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2E5E3-7E2A-443F-AA6A-45D95954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395DF-803B-4537-93F3-0EEFAD22D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9A186-A214-49DA-A4C1-18CB0BFE5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FBBD-A095-4BC1-8E3D-84F864042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05E9-38C8-4E98-8FC4-F92173686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ABAD-3E8F-4738-8648-EA8AD30ED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85" dur="2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6" dur="2000" fill="hold"/>
                                        <p:tgtEl>
                                          <p:spTgt spid="5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