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2DFD0-9037-4663-B0B4-C3FA43A81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449F-197C-4B98-BB56-C447CDDB2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48544-33C3-4BB6-8219-FAA150BCE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A7C49-ACD6-472F-B91C-33D23B94F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B5470-6690-414F-ACAA-D2F975EE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63B77-BA65-4BA8-BC3B-E0B7F542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DA96-03AD-410F-B221-F681AE93F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4A58E-1DBE-4BC9-B413-22B433B9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058F5-1D15-444E-BFBB-C05006014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3DF3-774B-47A3-B366-2494BDBCF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55DD-89A2-4E53-8EF0-3C447D6A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1166-5CA3-4EE3-A7BB-1C46E953A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B257-4C03-4920-833E-4DD44A6C2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barn(outVertical)"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 calcmode="lin" valueType="num">
                                      <p:cBhvr additive="repl">
                                        <p:cTn id="87"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89" dur="5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