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0E7AB-3063-412C-8ABF-E77968D9F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AAD07-46AE-4C8D-B04F-D154A5092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E7B33-434B-460C-9220-7FC9D381F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CC8AD-CA8E-4231-A731-5B36C4E2F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5ABBC-3722-4AC9-AC41-85A7BBB5E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9DBE1-A6AF-4238-8D5E-C008C55C6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669A0-729B-4B36-A2C4-A7A1DC331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7D858-65D9-4AE6-9799-E2C889375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B50C8-F174-4DDA-8960-8FDBDB8D0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7E18B-0ECE-4E71-850D-E95C8FA1C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ADF0B-64FD-4B54-AE1D-B77AF0E37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B3C22-3E73-4FA9-BD0E-CB5DFB7BF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2A50-2F8A-40D5-933A-E7768B05B3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2000"/>
                                        <p:tgtEl>
                                          <p:spTgt spid="55">
                                            <p:txEl>
                                              <p:pRg st="3" end="3"/>
                                            </p:txEl>
                                          </p:spTgt>
                                        </p:tgtEl>
                                      </p:cBhvr>
                                    </p:animEffect>
                                    <p:anim calcmode="lin" valueType="num">
                                      <p:cBhvr additive="repl">
                                        <p:cTn id="93"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4"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