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FE31EC-710E-498B-A648-4BA0929F12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E89C4-4BF6-465D-967D-9598F244E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C43B7E-1BE8-4B1A-A4FB-1E0A5279B4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A841D-4C30-4E03-A92F-CEACAB2C2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D8F58-4AFF-465A-852F-EF506CF73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016D0-1419-4C63-A2A6-1DD875EF1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BFAD7-42A2-4EC7-AEB1-D1D83951B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6788D-FFA8-45F6-B782-9BF5B1728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C9955-31A9-46C5-9254-62AE049C2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3A027-1C4D-4DAF-9FB7-6C40DF859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4F969-A298-4630-8792-EECC5B905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CBEBE-3A60-415B-82D1-6BCDB48B3F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D5DA9-BC09-4025-B143-77EC269A11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0" dur="500" fill="hold"/>
                                        <p:tgtEl>
                                          <p:spTgt spid="55">
                                            <p:txEl>
                                              <p:pRg st="1" end="1"/>
                                            </p:txEl>
                                          </p:spTgt>
                                        </p:tgtEl>
                                        <p:attrNameLst>
                                          <p:attrName>r</p:attrName>
                                        </p:attrNameLst>
                                      </p:cBhvr>
                                      <p:tavLst>
                                        <p:tav tm="0">
                                          <p:val>
                                            <p:strVal val="360"/>
                                          </p:val>
                                        </p:tav>
                                        <p:tav tm="100000">
                                          <p:val>
                                            <p:strVal val="0"/>
                                          </p:val>
                                        </p:tav>
                                      </p:tavLst>
                                    </p:anim>
                                    <p:animEffect filter="fade" transition="in">
                                      <p:cBhvr additive="repl">
                                        <p:cTn id="81" dur="500"/>
                                        <p:tgtEl>
                                          <p:spTgt spid="5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strips(upRight)" transition="in">
                                      <p:cBhvr additive="repl">
                                        <p:cTn id="86" dur="5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