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8369C-395E-4941-9D6E-CB5069812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51DF7-D031-4456-AFEC-B87E96AAC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DA457-2D39-479D-8C5D-1055A08D0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232B1-9CA0-48C5-981A-6AB8BC0FB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B83A3-1C7E-4921-A26C-C8F85046A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A9A87-C3A1-4C81-A60B-88E537067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CDD83-89F9-44C9-90E4-B138EF39D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942C7-30B1-444C-95D4-F2E0D14F8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6D22-B56F-4A1C-ADFD-F06469707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3B92B-115E-4379-B285-539AE936C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B1EB7-AB47-44EB-954F-9785D0A70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56C4-F9F2-48CF-92C2-38A6A441D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591A-904C-484C-972B-206F6D7B41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7"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8"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2000"/>
                                        <p:tgtEl>
                                          <p:spTgt spid="55">
                                            <p:txEl>
                                              <p:pRg st="3" end="3"/>
                                            </p:txEl>
                                          </p:spTgt>
                                        </p:tgtEl>
                                      </p:cBhvr>
                                    </p:animEffect>
                                    <p:anim calcmode="lin" valueType="num">
                                      <p:cBhvr additive="repl">
                                        <p:cTn id="95"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