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0B2D5-8384-4540-94C2-F70AFD0A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7BCD-C0E1-4232-A501-F4BE6F14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001CE-E36C-4196-B7CE-491B53A61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6A487-848A-41C7-AD75-2E2FDFC78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10C0-C185-470C-8AE5-55469198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2542E-15AD-4CE9-90A1-4959124CE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AFFD3-42D3-47D0-BA74-B099968B3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11065-56B3-4210-AC27-1F3488572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A24B6-4E61-403D-922D-EB9980A0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105F-DED8-47BB-A18C-FB4F393E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FBE7-FC99-4A3F-BB08-22F59DE2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DF96-5438-42DA-8C03-16F42ACB8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15A5-9AD8-4A9A-B067-C3A41A6B4D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Scale>
                                      <p:cBhvr>
                                        <p:cTn id="87"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55">
                                            <p:txEl>
                                              <p:pRg st="2" end="2"/>
                                            </p:txEl>
                                          </p:spTgt>
                                        </p:tgtEl>
                                      </p:cBhvr>
                                    </p:animMotion>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100"/>
                                        <p:tgtEl>
                                          <p:spTgt spid="55">
                                            <p:txEl>
                                              <p:pRg st="3" end="3"/>
                                            </p:txEl>
                                          </p:spTgt>
                                        </p:tgtEl>
                                      </p:cBhvr>
                                    </p:animEffect>
                                    <p:anim calcmode="lin" valueType="num">
                                      <p:cBhvr additive="repl">
                                        <p:cTn id="95"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6"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7"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