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0FE1F-23A6-4843-9551-A8A50CE59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933D8-4016-4F23-AEFC-8F02427A7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8C743-7CA5-4230-AD66-8103D1E13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05214-8BB7-4551-9390-544E6BA7B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1A237-0668-480A-A861-4763D1A68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C62BE-6179-4642-99BA-0A2CB2C0C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98466-CC9C-4563-A1EB-E3EA2189B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B397B-E5A9-4510-95F4-A9FD669CF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DACAB-752D-4C16-99F6-AD1862014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49C97-6C13-4D47-B035-651FC81F9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C927F-446B-4375-9F2D-E5DAC3FAA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12B76-79B3-4680-9995-BD5288DAB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5E19-451F-4F0C-9DC7-D5C69E663F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000">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 calcmode="lin" valueType="num">
                                      <p:cBhvr additive="repl">
                                        <p:cTn id="82" dur="500" fill="hold"/>
                                        <p:tgtEl>
                                          <p:spTgt spid="5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 dur="500" fill="hold"/>
                                        <p:tgtEl>
                                          <p:spTgt spid="5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 dur="500" fill="hold"/>
                                        <p:tgtEl>
                                          <p:spTgt spid="5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