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A871B-EC43-4F81-B9D6-D9D27BA19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7C845-1B7D-4D84-B5E4-6FDBA36A4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B3D5B-A5D5-467F-85FC-E5257E10B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A4E41-E767-4B11-BF0F-595A92A05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A63B3-741E-4D93-975C-D1874CD5A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6DD49-E6FC-4899-96EC-B0219E2AB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BE728-C1CD-4C88-99F2-028FC6CE5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FEC08-8FCA-4B59-8B4A-A10BE68BA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C2B4B-1155-4CC4-8E9F-37E85961C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852F0-3E91-42D3-AAE8-830EA6432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8EAAB-16F6-4D0E-A8EC-209C43376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67451-2A85-4CB3-A8AA-9A6CCF54E3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93C0C-7EB7-4F96-9EF8-06FA2FD49A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900" fill="hold"/>
                                        <p:tgtEl>
                                          <p:spTgt spid="55">
                                            <p:txEl>
                                              <p:pRg st="1" end="1"/>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900"/>
                                          </p:stCondLst>
                                        </p:cTn>
                                        <p:tgtEl>
                                          <p:spTgt spid="5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wheel(2)" transition="in">
                                      <p:cBhvr additive="repl">
                                        <p:cTn id="86" dur="2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3" dur="1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