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E2C6-DA74-44EA-BED9-992FF3D3D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24A6-61BA-4C04-97E7-C5E595F8C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AAC4A-78A7-4AE6-8258-9D83271D3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93EE9-B8D1-4CBA-855A-749D813AF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6176-A670-4DC7-9697-CBEDAFF96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21FD-6E2D-4829-A177-F2C3D9309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F155F-EC46-4EC4-9BE1-F39ED15B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C269-1069-4F15-B55A-B5D0FC140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5EA81-3A18-4C5C-A3D7-9E25A29C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8F08-D532-4639-9F14-16FBA4F7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68D1-3275-4C5F-921D-FD614CDA1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C0AC-4140-4621-BF6D-2C2EDB166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F977-9971-4A01-8BE1-3E44CE9BA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Scale>
                                      <p:cBhvr>
                                        <p:cTn id="87"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55">
                                            <p:txEl>
                                              <p:pRg st="2" end="2"/>
                                            </p:txEl>
                                          </p:spTgt>
                                        </p:tgtEl>
                                      </p:cBhvr>
                                    </p:animMotion>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set>
                                      <p:cBhvr>
                                        <p:cTn id="94" dur="455" fill="hold">
                                          <p:stCondLst>
                                            <p:cond delay="0"/>
                                          </p:stCondLst>
                                        </p:cTn>
                                        <p:tgtEl>
                                          <p:spTgt spid="55">
                                            <p:txEl>
                                              <p:pRg st="3" end="3"/>
                                            </p:txEl>
                                          </p:spTgt>
                                        </p:tgtEl>
                                        <p:attrNameLst>
                                          <p:attrName>r</p:attrName>
                                        </p:attrNameLst>
                                      </p:cBhvr>
                                      <p:to>
                                        <p:strVal val="-45"/>
                                      </p:to>
                                    </p:set>
                                    <p:anim calcmode="lin" valueType="num">
                                      <p:cBhvr additive="repl">
                                        <p:cTn id="95"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7"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