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CDF35-975E-41AC-BCB4-EDD89E51D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8DEA9-1EFB-4DCE-BC8F-E932417A2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3291A-A92F-4083-845C-BC3A00D17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0D0A5-4115-4ACA-AE1E-CA0945D27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97A87-38D3-4806-A3B5-88DF642E4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4A15D-DB37-41AE-867A-728C7CB0B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74A94-4935-4FB2-8A4D-9DCA1848B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4CCCF-FD7C-4C42-B9F7-10FEFC70E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761F8-890E-4618-B84F-9658048EA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A3A61-E4DC-4CE2-A72B-10A417263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DE835-676F-4787-90C0-01FE25A42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9B407-55C0-4A54-A7E8-40504E2FD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765A-3E7E-4105-8FE7-4D53B680F1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blinds(vertical)"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discrete" valueType="clr">
                                      <p:cBhvr additive="repl">
                                        <p:cTn id="90" dur="80"/>
                                        <p:tgtEl>
                                          <p:spTgt spid="5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91" dur="80"/>
                                        <p:tgtEl>
                                          <p:spTgt spid="55">
                                            <p:txEl>
                                              <p:pRg st="3" end="3"/>
                                            </p:txEl>
                                          </p:spTgt>
                                        </p:tgtEl>
                                        <p:attrNameLst>
                                          <p:attrName>fillcolor</p:attrName>
                                        </p:attrNameLst>
                                      </p:cBhvr>
                                      <p:tavLst>
                                        <p:tav tm="0">
                                          <p:val>
                                            <p:strVal val="rgb(-103,51,51)"/>
                                          </p:val>
                                        </p:tav>
                                        <p:tav tm="50000">
                                          <p:val>
                                            <p:strVal val="rgb(-103,-103,0)"/>
                                          </p:val>
                                        </p:tav>
                                      </p:tavLst>
                                    </p:anim>
                                    <p:set>
                                      <p:cBhvr>
                                        <p:cTn id="92" dur="80"/>
                                        <p:tgtEl>
                                          <p:spTgt spid="55">
                                            <p:txEl>
                                              <p:pRg st="3" end="3"/>
                                            </p:txEl>
                                          </p:spTgt>
                                        </p:tgtEl>
                                        <p:attrNameLst>
                                          <p:attrName>fill.type</p:attrName>
                                        </p:attrNameLst>
                                      </p:cBhvr>
                                      <p:to>
                                        <p:strVal val="solid"/>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