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E353F-0F1E-4D01-89FA-5CAA32D14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74A73-9FF3-43AE-A5F5-74463E3A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8C944-AEC4-4B81-A1F9-6F55BB2B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388EE-8ABE-406E-83B2-2C01A9252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AE98-4046-4BF4-B1A4-0895F998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D331-4F64-4B09-84F6-B4EA5FDD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6025-8C42-4AC1-AFC6-A249BDB3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315C-AA81-40C5-9D1B-82D6FB632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E0B42-D646-4F72-9EFC-F2522A19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EF65-1F5A-46F1-BB97-0AC180B53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3709-F161-4097-A832-8A538206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04C6-DAB5-4339-ACAC-1424FAF05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7D83-2374-4819-85F9-2CC41A6D3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blinds(vertical)"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1000"/>
                                        <p:tgtEl>
                                          <p:spTgt spid="55">
                                            <p:txEl>
                                              <p:pRg st="3" end="3"/>
                                            </p:txEl>
                                          </p:spTgt>
                                        </p:tgtEl>
                                      </p:cBhvr>
                                    </p:animEffect>
                                    <p:anim calcmode="lin" valueType="num">
                                      <p:cBhvr additive="repl">
                                        <p:cTn id="89"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