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AD608-6034-4478-BBB1-327188445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7CB13-FED5-4EE1-87A9-AAA033B95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EAB7D-8F7D-4516-B262-B22490642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9E3DD-5541-4647-8118-B81F97133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21D64-4E07-4C66-A440-16AE05D04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283FF-0C33-4556-8841-63102557F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B23F-6A33-4F0B-9EC5-784B33D76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84497-486A-4F15-BEAD-0063861D5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3224F-F462-46A9-AF96-90C3D977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BFA5-639A-4FBA-9A97-C6B3EA2C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5AA0-4CA7-4238-8235-69E52B398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B3A5A-A2B5-48F4-A546-A2EC2BF31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47EA-A973-48EE-974A-A520BE531A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fade" transition="in">
                                      <p:cBhvr additive="repl">
                                        <p:cTn id="88" dur="2000"/>
                                        <p:tgtEl>
                                          <p:spTgt spid="5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