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D043C-DD25-4FB2-8C2E-4846441FB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3AFCF-BD74-482F-986D-CEA69E720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9A6C2-8DBC-41B1-B9E5-F3BF0C4B6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69450-2CF3-4FE5-98BA-1A6B4AB94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1E392-7708-4F51-96FA-69E7850EA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5B076-75D2-4623-AA8D-A12F91329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40EDB-4290-40F5-B061-9D6234406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42E88-4484-4733-98EE-93ACDFC85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634DD-BA39-43BD-9E95-12913CAC5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9C5D2-755A-4A15-8C5D-A1EA863DF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FEB1A-4FE9-43B8-B947-B78B7A623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DDD51-8E1F-4E46-8F1C-536B0293A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91270-35DD-48D0-A110-637A96D7D7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Scale>
                                      <p:cBhvr>
                                        <p:cTn id="78" dur="1000" fill="hold">
                                          <p:stCondLst>
                                            <p:cond delay="0"/>
                                          </p:stCondLst>
                                        </p:cTn>
                                        <p:tgtEl>
                                          <p:spTgt spid="5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 dur="1000" fill="hold">
                                          <p:stCondLst>
                                            <p:cond delay="0"/>
                                          </p:stCondLst>
                                        </p:cTn>
                                        <p:tgtEl>
                                          <p:spTgt spid="55">
                                            <p:txEl>
                                              <p:pRg st="1" end="1"/>
                                            </p:txEl>
                                          </p:spTgt>
                                        </p:tgtEl>
                                      </p:cBhvr>
                                    </p:animMotion>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4" dur="5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