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5970B-E185-4961-A178-1E6F16F19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3F110-5A42-450D-A654-2C684E44A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19884-258D-47B1-AA8B-D800C2551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E540D-9E39-46B4-9044-38B662D1D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4F866-8CBC-475A-A902-7BBB72A6C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070F1-D882-43D1-9C2A-34ED14C60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DB6D5-6154-47BD-A4E3-CBD7A24A3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5081F-B169-4A29-B08F-512077E59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18873-2ADE-4F8D-86E6-2340690F0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A3DC-7109-4300-89AE-C20B73F8D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B0153-169B-4FD9-9D48-A0D221BB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84D7-21BC-48DB-9931-A863FDAB6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EEED-AEA9-4211-B7BE-45755D815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9" dur="5000" fill="hold"/>
                                        <p:tgtEl>
                                          <p:spTgt spid="55">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6"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set>
                                      <p:cBhvr>
                                        <p:cTn id="92" dur="455" fill="hold">
                                          <p:stCondLst>
                                            <p:cond delay="0"/>
                                          </p:stCondLst>
                                        </p:cTn>
                                        <p:tgtEl>
                                          <p:spTgt spid="55">
                                            <p:txEl>
                                              <p:pRg st="3" end="3"/>
                                            </p:txEl>
                                          </p:spTgt>
                                        </p:tgtEl>
                                        <p:attrNameLst>
                                          <p:attrName>r</p:attrName>
                                        </p:attrNameLst>
                                      </p:cBhvr>
                                      <p:to>
                                        <p:strVal val="-45"/>
                                      </p:to>
                                    </p:set>
                                    <p:anim calcmode="lin" valueType="num">
                                      <p:cBhvr additive="repl">
                                        <p:cTn id="93"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4"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5"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6"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