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814B8-D156-4441-8D8C-3530B2CAF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C0311-B1D0-48D2-A30E-F49A22F0C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28FF0-2010-4671-943D-AE811CB07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967FA-3460-4BA8-8B9D-5090A1CCB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48ED2-7862-40A7-9CBF-1EFDBE961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2F0EA-5A8C-467F-A4C0-0BA437AC9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51E38-0F5F-4453-9E66-CF3894497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21BF9-7D98-4B9C-81DB-128A33170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4398F-3B80-4B58-8558-395718599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4E2EB-D1FD-48AA-B85B-0A68FC33D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E7916-871F-49DC-8BCA-FAD53E912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AE564-2115-4DF3-8094-E7C82F40E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2E5EF-B1DA-41E8-9C8E-05F5EFAF5D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3" dur="5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4" dur="500" fill="hold"/>
                                        <p:tgtEl>
                                          <p:spTgt spid="55">
                                            <p:txEl>
                                              <p:pRg st="3" end="3"/>
                                            </p:txEl>
                                          </p:spTgt>
                                        </p:tgtEl>
                                        <p:attrNameLst>
                                          <p:attrName>r</p:attrName>
                                        </p:attrNameLst>
                                      </p:cBhvr>
                                      <p:tavLst>
                                        <p:tav tm="0">
                                          <p:val>
                                            <p:strVal val="360"/>
                                          </p:val>
                                        </p:tav>
                                        <p:tav tm="100000">
                                          <p:val>
                                            <p:strVal val="0"/>
                                          </p:val>
                                        </p:tav>
                                      </p:tavLst>
                                    </p:anim>
                                    <p:animEffect filter="fade" transition="in">
                                      <p:cBhvr additive="repl">
                                        <p:cTn id="95" dur="5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