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C47F9B-9F13-466A-B20D-A6D6C830B3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39717-AAB1-4AD3-9C5A-26EB193B4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132F0-8C7D-4852-80F5-C4B76B3376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3B39AC-0EB1-4CCB-80B8-06186E76C0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692E4-055E-4B4C-B067-150711024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49376-F4A5-439E-A6FF-8E140D8F7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44E6D-7B4F-444B-891D-BA50F54EF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F5CDF-29E5-471A-99AB-E81A91A1F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EF602-FC31-4FD7-9786-E9ED47770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1F858-98ED-4570-A0CA-35B4D3142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90E92-380C-4D72-9B4E-3D5D90E7F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C5B91-A1D8-4CAE-816E-A7A1E2C507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8FB76-FF0A-47AD-B26F-1CC5E69C2C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Effect filter="fade" transition="in">
                                      <p:cBhvr additive="repl">
                                        <p:cTn id="80" dur="5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6"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87" dur="5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circle(out)" transition="in">
                                      <p:cBhvr additive="repl">
                                        <p:cTn id="92" dur="20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