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16603-B89A-464B-BA2A-8118FF7EA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FD0C-87AC-4A42-8792-556C3EC6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B833A-751D-4D8C-B599-CC004E332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BC35E-C9D1-4AD2-A9F6-CEECC16F8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11C8A-66D9-4CD2-889B-BE32C02E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BFF9-0ACD-4B61-B69F-07C6AFB36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ED5A-D84D-4115-B5FD-B21994AA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D3E64-FE36-4EBD-B251-BED1FD29D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CAC5F-0D4C-4C37-9831-B3C3DC31C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7977-95E2-409E-BC1C-4EB8F5D6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6BE8-02C6-41E0-A9CD-C4D688D0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FDA2-37AF-4C35-81E6-C45F79218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A735-034D-4C40-8C86-238FC7D85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2" dur="20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 calcmode="lin" valueType="num">
                                      <p:cBhvr additive="repl">
                                        <p:cTn id="87"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8"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89"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0" dur="1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