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2EAEC-2C38-4394-9666-5C9B130D7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5802E-5CB9-442F-9E1E-2C94E50F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B581F-109A-464F-B27F-AAC96A40B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4AE71-B4E9-472D-8247-35C7A2C13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4B8D-A222-411C-B69F-80316BF6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8D8E-7198-4F87-A480-BC1F7213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A6E7F-74A3-495C-9462-FEC5097D4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0C59-02CD-4556-978D-206BAF204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D395-BB80-4118-BF76-E4ED23D1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CE4C2-B454-48BC-B43E-B8F7F81B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8A725-D3FA-490C-A2BE-143A55C2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5DFB-9055-4C5E-A736-C21495400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6B7C-8ECF-4E9B-BA0C-47F82651D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800"/>
                                        <p:tgtEl>
                                          <p:spTgt spid="55">
                                            <p:txEl>
                                              <p:pRg st="3" end="3"/>
                                            </p:txEl>
                                          </p:spTgt>
                                        </p:tgtEl>
                                      </p:cBhvr>
                                    </p:animEffect>
                                    <p:anim calcmode="lin" valueType="num">
                                      <p:cBhvr additive="repl">
                                        <p:cTn id="90"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1"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