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F6932-3077-4FC7-B740-E43A444E4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9ADB-800F-4564-8238-891625046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0D4C8-22DD-45DD-AD39-4248E782E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F2F25-9066-42D9-8614-3F7E967C1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D1EF-282C-4352-B59F-069E109FD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D410A-9E2A-4BC9-8260-E05353A89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7743D-411B-4DF7-A281-8F5494303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55D00-79D1-4D85-8A77-763B3007F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41C9E-7D34-4CE5-BD03-C97E670F1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693B2-EE2B-4212-929E-57B1344C6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109D-18AB-41A4-8DFB-F2BA3A4CB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A0ABD-FD09-49CD-B967-91AB6B1CF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C407-6FF6-4BF9-903C-68BE88E0E3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4" dur="5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circle(out)" transition="in">
                                      <p:cBhvr additive="repl">
                                        <p:cTn id="89" dur="2000"/>
                                        <p:tgtEl>
                                          <p:spTgt spid="5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