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CB7BE-7E96-4873-AA07-C35BE24A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39C2-98C1-4F63-ACDD-ACEC13B3F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10BEA-AD41-4EC3-9481-767441118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42618-5D68-4C64-AA4A-EF42E02AF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19E6-B25A-49BA-9BA6-31E42397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9B9CA-A594-4965-9A8F-EAE82BA8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F28F-9EC9-438B-8880-078106C1C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11EA1-314F-4E4A-B93C-13C208E7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C1C4-58A5-44F1-AF7F-D2267C4AC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D895-75F0-4FEB-867C-62BFAF6BA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D5198-CC65-4BC3-8B31-DB773D70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7660-778F-4EC9-9924-512F07B64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D1C4-2893-427C-9085-E9F63EDDA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100"/>
                                        <p:tgtEl>
                                          <p:spTgt spid="55">
                                            <p:txEl>
                                              <p:pRg st="2" end="2"/>
                                            </p:txEl>
                                          </p:spTgt>
                                        </p:tgtEl>
                                      </p:cBhvr>
                                    </p:animEffect>
                                    <p:anim calcmode="lin" valueType="num">
                                      <p:cBhvr additive="repl">
                                        <p:cTn id="83"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5"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3"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