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62D92-925A-4E1A-BC82-B58D42634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CD99B-BB2B-4F59-8C76-4E9BB9512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D6F3D-768F-4BE5-8F2D-188412446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18CB5-2804-4C94-9BD5-60E5A0443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979C6-1A9A-42A3-BCB1-169985E04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73262-4F0C-4CDC-8217-F5CBA1A96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06731-D005-4AC0-9A6A-B152F6D6C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3A430-A73C-41FF-9A1A-AD2C0D64D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6AF98-1191-46BE-BDB0-4F2E0AB41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AA343-0B4A-449E-8EC0-A783FE34D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CB2F0-BD3C-447E-A1CE-6E652FE4C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5743D-4F6C-4F09-8F27-EF3C60F6F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CB22-7759-4E8C-9EAF-D8422DBB14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fade" transition="in">
                                      <p:cBhvr additive="repl">
                                        <p:cTn id="87" dur="2000"/>
                                        <p:tgtEl>
                                          <p:spTgt spid="55">
                                            <p:txEl>
                                              <p:pRg st="2" end="2"/>
                                            </p:txEl>
                                          </p:spTgt>
                                        </p:tgtEl>
                                      </p:cBhvr>
                                    </p:animEffect>
                                    <p:anim calcmode="lin" valueType="num">
                                      <p:cBhvr additive="repl">
                                        <p:cTn id="88"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9"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5"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6" dur="5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