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946C8-4805-406B-B175-8098CC3FB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F260C-2E59-474E-951B-BEB7BD54C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298F6-CA04-4EC8-933D-AFFAD3872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EDDEF-DCC3-4C0D-9960-EAD5DB62C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D2C3D-68C8-48D9-B911-3FE80DBF3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25AAD-962C-4DCB-AF31-46174406A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57206-A3CC-4A7A-9075-360D03135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1A37C-35FA-4910-83D2-D8F37F75C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E40C3-BD01-423A-991C-5104240D0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E3DF7-F90E-4A36-B5E7-718AD6292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9118-A412-410C-B59E-BF06EF462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A39E0-B53A-4878-9939-358E4592D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D615-5078-47B2-8E84-0A9A451CD1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1000"/>
                                        <p:tgtEl>
                                          <p:spTgt spid="55">
                                            <p:txEl>
                                              <p:pRg st="2" end="2"/>
                                            </p:txEl>
                                          </p:spTgt>
                                        </p:tgtEl>
                                      </p:cBhvr>
                                    </p:animEffect>
                                    <p:anim calcmode="lin" valueType="num">
                                      <p:cBhvr additive="repl">
                                        <p:cTn id="87"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8"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