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0EF08-D847-42CF-A4D7-46FD3B37AC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DF6D2-0092-46E7-B9E4-1382D5AD6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8152EE-4BBD-4941-8470-2B21158F2A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A26446-75FC-4B4C-9D3C-B38D88BB2C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A47CB-8077-4FC5-8D87-D180B311B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3D9E7-B0E6-41A0-ACA5-F34B1B1F2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94164-DFA4-4611-8C09-13C3A7A17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E18DA-C936-4E48-95C0-E091A79E5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BF395-E6E5-4F51-AA12-F2955C238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06C06-18FC-48FA-A988-9D3D135E9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044CC-95E5-4178-94A1-0B1F5A51A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8D8CC-B06F-4CC0-8AE4-2C890B397B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C729F-8F09-4D76-9C54-4D208DB454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dissolve" transition="in">
                                      <p:cBhvr additive="repl">
                                        <p:cTn id="85" dur="5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91"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2" dur="10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